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B5C9-8A47-4B7F-BEFB-83A399F11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BDA836-11BF-440C-B8FA-DA6331F05504}" type="slidenum">
              <a:rPr b="0" lang="en-US" sz="1200" spc="-1" strike="noStrike">
                <a:solidFill>
                  <a:srgbClr val="000000"/>
                </a:solidFill>
                <a:latin typeface="Snap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1AB3-552C-4E58-86F4-5834190C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BD58-E6C5-4D36-8E43-A1EFE239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B09-54EA-42D3-B231-0E1350F7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31CF-4A66-408C-B16A-40C80B7A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CC4F-0DAA-4334-A130-F6C2F784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36A-983E-45B2-98EA-1E93ED12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441F-C4F5-45E7-89A7-F36EF69E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8A5-8AE5-47E7-ACF9-4FC2AAD7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5808-5A16-448D-90B1-5847CCC7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BA2-0777-440E-AA96-3B01D783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EEA-ECD7-4706-9C8B-76D02E00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D55-0BB6-4418-9028-D918714B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C590-0499-4228-AA6F-3E5C72DCF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45720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Status of HWRF Vortex Initialization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WRF 3.2 has been upgraded on Jet with several fixes, including vortex initialization and auto submission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ew GFS data are being copied to Jet for retrospective experiments with 2008, 2009, 2010 storms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Need more coding efforts for </a:t>
            </a:r>
            <a:r>
              <a:rPr b="0" lang="en-US" sz="2400" spc="-1" strike="noStrike">
                <a:solidFill>
                  <a:srgbClr val="3333cc"/>
                </a:solidFill>
                <a:latin typeface="Cambria"/>
                <a:ea typeface="MS Mincho"/>
              </a:rPr>
              <a:t>storm-size correctio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Mini test of new formulation with Ana and Bill (2009) on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  <a:ea typeface="MS Mincho"/>
              </a:rPr>
              <a:t>false alarm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 and 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  <a:ea typeface="MS Mincho"/>
              </a:rPr>
              <a:t>rapid intensification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Investigate </a:t>
            </a:r>
            <a:r>
              <a:rPr b="0" lang="en-US" sz="2400" spc="-1" strike="noStrike">
                <a:solidFill>
                  <a:srgbClr val="3333cc"/>
                </a:solidFill>
                <a:latin typeface="Cambria"/>
                <a:ea typeface="MS Mincho"/>
              </a:rPr>
              <a:t>storm-depth correctio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 if possible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☞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To be delivered to EMC by 12/31, 2010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9:35:24Z</dcterms:created>
  <dc:creator>Administrator</dc:creator>
  <dc:description/>
  <dc:language>en-US</dc:language>
  <cp:lastModifiedBy>yeh</cp:lastModifiedBy>
  <cp:lastPrinted>2004-10-29T18:41:29Z</cp:lastPrinted>
  <dcterms:modified xsi:type="dcterms:W3CDTF">2010-11-17T20:54:55Z</dcterms:modified>
  <cp:revision>527</cp:revision>
  <dc:subject/>
  <dc:title>HIGH RESOLUTION fvGCM  RESULTS</dc:title>
</cp:coreProperties>
</file>